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F29-17BF-483C-AC07-DA3A027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AD0-4B09-42D2-BE93-CB984F8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5CD-AA9B-4B22-B1F4-609D566F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0EB-95D7-49A4-A1EC-2205F47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B7A-90AC-4D9F-A838-F8333858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355-18B9-4319-B109-B032074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C94-91E6-4828-966D-63461383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1CF-FC97-427D-89A9-0D571828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5F9-8518-41BE-AAFA-71EE83A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D65-0BEB-4B5E-BFDE-6EDD177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8C3-8C74-418A-A407-204323B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B5F-540F-4286-8B2D-A7BDD4E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B26-13C0-49EB-9FB1-11394A3FE5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8000" y="6237000"/>
            <a:ext cx="414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763640" y="2781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c000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3-08-26T06:23:41Z</dcterms:modified>
  <cp:revision>780</cp:revision>
  <dc:subject/>
  <dc:title>Free PPT Backgrounds</dc:title>
</cp:coreProperties>
</file>